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94BF-015E-4760-8272-FD5891C6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1097-3C39-4C55-8D6F-DC66EF86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78B9-87E1-4F28-B0C9-87D35450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4BA9-CE84-4CF1-9ECD-AA60C383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A7BE-3C1C-43FF-A8A7-434E4B15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AD4C-963F-45B0-96AE-D90B41E0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70AD-02A2-4DA7-9AEB-45C13787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D499-48AA-443E-BF1C-BE16D244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0C20-C96E-4388-9813-711EA84C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438D-25C7-4008-A82C-3610BEA6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D99A-E72C-4C75-A85B-C10AA4A6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C459-0F30-41EE-AC8D-37198AB6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13E9-7C60-4B7E-82C9-8DC777537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132"/>
          <p:cNvSpPr/>
          <p:nvPr/>
        </p:nvSpPr>
        <p:spPr>
          <a:xfrm>
            <a:off x="4952880" y="43434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48"/>
          <p:cNvGrpSpPr/>
          <p:nvPr/>
        </p:nvGrpSpPr>
        <p:grpSpPr>
          <a:xfrm>
            <a:off x="1785960" y="1143000"/>
            <a:ext cx="6240240" cy="4017600"/>
            <a:chOff x="1785960" y="1143000"/>
            <a:chExt cx="6240240" cy="4017600"/>
          </a:xfrm>
        </p:grpSpPr>
        <p:grpSp>
          <p:nvGrpSpPr>
            <p:cNvPr id="44" name="Group 1"/>
            <p:cNvGrpSpPr/>
            <p:nvPr/>
          </p:nvGrpSpPr>
          <p:grpSpPr>
            <a:xfrm>
              <a:off x="1785960" y="1143000"/>
              <a:ext cx="6240240" cy="4017600"/>
              <a:chOff x="1785960" y="1143000"/>
              <a:chExt cx="6240240" cy="4017600"/>
            </a:xfrm>
          </p:grpSpPr>
          <p:sp>
            <p:nvSpPr>
              <p:cNvPr id="45" name="AutoShape 27"/>
              <p:cNvSpPr/>
              <p:nvPr/>
            </p:nvSpPr>
            <p:spPr>
              <a:xfrm>
                <a:off x="7021800" y="2431080"/>
                <a:ext cx="534600" cy="709920"/>
              </a:xfrm>
              <a:prstGeom prst="flowChartMagneticDisk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AutoShape 122"/>
              <p:cNvSpPr/>
              <p:nvPr/>
            </p:nvSpPr>
            <p:spPr>
              <a:xfrm>
                <a:off x="3746160" y="4559760"/>
                <a:ext cx="381600" cy="549720"/>
              </a:xfrm>
              <a:prstGeom prst="flowChartMagneticDisk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" name="Group 119"/>
              <p:cNvGrpSpPr/>
              <p:nvPr/>
            </p:nvGrpSpPr>
            <p:grpSpPr>
              <a:xfrm>
                <a:off x="3109680" y="4910760"/>
                <a:ext cx="255600" cy="249840"/>
                <a:chOff x="3109680" y="4910760"/>
                <a:chExt cx="255600" cy="249840"/>
              </a:xfrm>
            </p:grpSpPr>
            <p:pic>
              <p:nvPicPr>
                <p:cNvPr id="48" name="Picture 121" descr=""/>
                <p:cNvPicPr/>
                <p:nvPr/>
              </p:nvPicPr>
              <p:blipFill>
                <a:blip r:embed="rId1"/>
                <a:stretch/>
              </p:blipFill>
              <p:spPr>
                <a:xfrm rot="5400000">
                  <a:off x="3112560" y="4907880"/>
                  <a:ext cx="249840" cy="255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" name="Picture 120" descr=""/>
                <p:cNvPicPr/>
                <p:nvPr/>
              </p:nvPicPr>
              <p:blipFill>
                <a:blip r:embed="rId2"/>
                <a:stretch/>
              </p:blipFill>
              <p:spPr>
                <a:xfrm rot="5400000">
                  <a:off x="3106440" y="4950360"/>
                  <a:ext cx="212400" cy="171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0" name="AutoShape 118"/>
              <p:cNvSpPr/>
              <p:nvPr/>
            </p:nvSpPr>
            <p:spPr>
              <a:xfrm>
                <a:off x="5140440" y="2431080"/>
                <a:ext cx="534600" cy="709920"/>
              </a:xfrm>
              <a:prstGeom prst="flowChartMagneticDisk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AutoShape 117"/>
              <p:cNvSpPr/>
              <p:nvPr/>
            </p:nvSpPr>
            <p:spPr>
              <a:xfrm>
                <a:off x="4115160" y="2431080"/>
                <a:ext cx="534600" cy="709920"/>
              </a:xfrm>
              <a:prstGeom prst="flowChartMagneticDisk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AutoShape 116"/>
              <p:cNvSpPr/>
              <p:nvPr/>
            </p:nvSpPr>
            <p:spPr>
              <a:xfrm>
                <a:off x="6102360" y="2431080"/>
                <a:ext cx="534600" cy="709920"/>
              </a:xfrm>
              <a:prstGeom prst="flowChartMagneticDisk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" name="Group 113"/>
              <p:cNvGrpSpPr/>
              <p:nvPr/>
            </p:nvGrpSpPr>
            <p:grpSpPr>
              <a:xfrm>
                <a:off x="4319640" y="1744200"/>
                <a:ext cx="157320" cy="132480"/>
                <a:chOff x="4319640" y="1744200"/>
                <a:chExt cx="157320" cy="132480"/>
              </a:xfrm>
            </p:grpSpPr>
            <p:pic>
              <p:nvPicPr>
                <p:cNvPr id="54" name="Picture 1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19640" y="1744200"/>
                  <a:ext cx="157320" cy="132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Picture 11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331880" y="1778760"/>
                  <a:ext cx="133920" cy="89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6" name="Group 110"/>
              <p:cNvGrpSpPr/>
              <p:nvPr/>
            </p:nvGrpSpPr>
            <p:grpSpPr>
              <a:xfrm>
                <a:off x="3912480" y="3535560"/>
                <a:ext cx="255600" cy="249840"/>
                <a:chOff x="3912480" y="3535560"/>
                <a:chExt cx="255600" cy="249840"/>
              </a:xfrm>
            </p:grpSpPr>
            <p:pic>
              <p:nvPicPr>
                <p:cNvPr id="57" name="Picture 112" descr=""/>
                <p:cNvPicPr/>
                <p:nvPr/>
              </p:nvPicPr>
              <p:blipFill>
                <a:blip r:embed="rId5"/>
                <a:stretch/>
              </p:blipFill>
              <p:spPr>
                <a:xfrm rot="5400000">
                  <a:off x="3915360" y="3532680"/>
                  <a:ext cx="249840" cy="255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11" descr=""/>
                <p:cNvPicPr/>
                <p:nvPr/>
              </p:nvPicPr>
              <p:blipFill>
                <a:blip r:embed="rId6"/>
                <a:stretch/>
              </p:blipFill>
              <p:spPr>
                <a:xfrm rot="5400000">
                  <a:off x="3909240" y="3575160"/>
                  <a:ext cx="212400" cy="171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cxnSp>
            <p:nvCxnSpPr>
              <p:cNvPr id="59" name="AutoShape 109"/>
              <p:cNvCxnSpPr/>
              <p:nvPr/>
            </p:nvCxnSpPr>
            <p:spPr>
              <a:xfrm>
                <a:off x="6369480" y="3141000"/>
                <a:ext cx="1080" cy="1432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60" name="AutoShape 108"/>
              <p:cNvCxnSpPr/>
              <p:nvPr/>
            </p:nvCxnSpPr>
            <p:spPr>
              <a:xfrm>
                <a:off x="5407560" y="3141000"/>
                <a:ext cx="1080" cy="1396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61" name="AutoShape 107"/>
              <p:cNvCxnSpPr/>
              <p:nvPr/>
            </p:nvCxnSpPr>
            <p:spPr>
              <a:xfrm>
                <a:off x="4394520" y="3140640"/>
                <a:ext cx="3240" cy="1378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62" name="AutoShape 106"/>
              <p:cNvCxnSpPr/>
              <p:nvPr/>
            </p:nvCxnSpPr>
            <p:spPr>
              <a:xfrm flipH="1" flipV="1">
                <a:off x="4168440" y="3660840"/>
                <a:ext cx="3121200" cy="5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3" name="AutoShape 105"/>
              <p:cNvCxnSpPr/>
              <p:nvPr/>
            </p:nvCxnSpPr>
            <p:spPr>
              <a:xfrm flipH="1">
                <a:off x="3366000" y="5035680"/>
                <a:ext cx="4060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4" name="AutoShape 104"/>
              <p:cNvCxnSpPr/>
              <p:nvPr/>
            </p:nvCxnSpPr>
            <p:spPr>
              <a:xfrm flipV="1">
                <a:off x="3938040" y="4777560"/>
                <a:ext cx="1080" cy="141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5" name="AutoShape 103"/>
              <p:cNvCxnSpPr/>
              <p:nvPr/>
            </p:nvCxnSpPr>
            <p:spPr>
              <a:xfrm flipH="1">
                <a:off x="4396680" y="1867680"/>
                <a:ext cx="1800" cy="131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66" name="AutoShape 102"/>
              <p:cNvCxnSpPr/>
              <p:nvPr/>
            </p:nvCxnSpPr>
            <p:spPr>
              <a:xfrm flipH="1">
                <a:off x="3616920" y="3661560"/>
                <a:ext cx="313560" cy="32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7" name="AutoShape 101"/>
              <p:cNvSpPr/>
              <p:nvPr/>
            </p:nvSpPr>
            <p:spPr>
              <a:xfrm>
                <a:off x="6292440" y="3283920"/>
                <a:ext cx="155880" cy="16488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AutoShape 100"/>
              <p:cNvSpPr/>
              <p:nvPr/>
            </p:nvSpPr>
            <p:spPr>
              <a:xfrm>
                <a:off x="5307480" y="1998720"/>
                <a:ext cx="156240" cy="16488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AutoShape 99"/>
              <p:cNvSpPr/>
              <p:nvPr/>
            </p:nvSpPr>
            <p:spPr>
              <a:xfrm>
                <a:off x="5330520" y="3280320"/>
                <a:ext cx="156240" cy="16488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98"/>
              <p:cNvSpPr/>
              <p:nvPr/>
            </p:nvSpPr>
            <p:spPr>
              <a:xfrm>
                <a:off x="5157720" y="1143000"/>
                <a:ext cx="470880" cy="471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97"/>
              <p:cNvSpPr/>
              <p:nvPr/>
            </p:nvSpPr>
            <p:spPr>
              <a:xfrm>
                <a:off x="4163400" y="1143000"/>
                <a:ext cx="470880" cy="471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AutoShape 96"/>
              <p:cNvCxnSpPr/>
              <p:nvPr/>
            </p:nvCxnSpPr>
            <p:spPr>
              <a:xfrm flipH="1">
                <a:off x="4397760" y="1614600"/>
                <a:ext cx="1440" cy="1303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73" name="Group 93"/>
              <p:cNvGrpSpPr/>
              <p:nvPr/>
            </p:nvGrpSpPr>
            <p:grpSpPr>
              <a:xfrm>
                <a:off x="5307480" y="1744200"/>
                <a:ext cx="157320" cy="132480"/>
                <a:chOff x="5307480" y="1744200"/>
                <a:chExt cx="157320" cy="132480"/>
              </a:xfrm>
            </p:grpSpPr>
            <p:pic>
              <p:nvPicPr>
                <p:cNvPr id="74" name="Picture 9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307480" y="1744200"/>
                  <a:ext cx="157320" cy="132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9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319720" y="1778760"/>
                  <a:ext cx="133920" cy="89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cxnSp>
            <p:nvCxnSpPr>
              <p:cNvPr id="76" name="AutoShape 92"/>
              <p:cNvCxnSpPr/>
              <p:nvPr/>
            </p:nvCxnSpPr>
            <p:spPr>
              <a:xfrm flipH="1">
                <a:off x="5384880" y="1867680"/>
                <a:ext cx="1800" cy="131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77" name="AutoShape 91"/>
              <p:cNvCxnSpPr/>
              <p:nvPr/>
            </p:nvCxnSpPr>
            <p:spPr>
              <a:xfrm flipH="1">
                <a:off x="5385600" y="1614600"/>
                <a:ext cx="1080" cy="1303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8" name="AutoShape 90"/>
              <p:cNvCxnSpPr/>
              <p:nvPr/>
            </p:nvCxnSpPr>
            <p:spPr>
              <a:xfrm flipH="1" flipV="1">
                <a:off x="3938400" y="2286000"/>
                <a:ext cx="3338280" cy="28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79" name="Oval 89"/>
              <p:cNvSpPr/>
              <p:nvPr/>
            </p:nvSpPr>
            <p:spPr>
              <a:xfrm>
                <a:off x="5388840" y="2382840"/>
                <a:ext cx="49320" cy="939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AutoShape 88"/>
              <p:cNvSpPr/>
              <p:nvPr/>
            </p:nvSpPr>
            <p:spPr>
              <a:xfrm>
                <a:off x="4314240" y="1998720"/>
                <a:ext cx="156240" cy="16488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" name="Group 84"/>
              <p:cNvGrpSpPr/>
              <p:nvPr/>
            </p:nvGrpSpPr>
            <p:grpSpPr>
              <a:xfrm>
                <a:off x="4389480" y="2203200"/>
                <a:ext cx="49320" cy="167400"/>
                <a:chOff x="4389480" y="2203200"/>
                <a:chExt cx="49320" cy="167400"/>
              </a:xfrm>
            </p:grpSpPr>
            <p:sp>
              <p:nvSpPr>
                <p:cNvPr id="82" name="Oval 87"/>
                <p:cNvSpPr/>
                <p:nvPr/>
              </p:nvSpPr>
              <p:spPr>
                <a:xfrm>
                  <a:off x="4389480" y="2203200"/>
                  <a:ext cx="49320" cy="936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Oval 86"/>
                <p:cNvSpPr/>
                <p:nvPr/>
              </p:nvSpPr>
              <p:spPr>
                <a:xfrm>
                  <a:off x="4389480" y="2276640"/>
                  <a:ext cx="49320" cy="93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84" name="AutoShape 83"/>
              <p:cNvCxnSpPr>
                <a:stCxn id="80" idx="2"/>
                <a:endCxn id="82" idx="2"/>
              </p:cNvCxnSpPr>
              <p:nvPr/>
            </p:nvCxnSpPr>
            <p:spPr>
              <a:xfrm flipH="1">
                <a:off x="4389480" y="2163600"/>
                <a:ext cx="3240" cy="867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85" name="AutoShape 82"/>
              <p:cNvCxnSpPr>
                <a:stCxn id="83" idx="2"/>
                <a:endCxn id="51" idx="1"/>
              </p:cNvCxnSpPr>
              <p:nvPr/>
            </p:nvCxnSpPr>
            <p:spPr>
              <a:xfrm flipH="1">
                <a:off x="4382640" y="2323800"/>
                <a:ext cx="7200" cy="1076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86" name="Oval 80"/>
              <p:cNvSpPr/>
              <p:nvPr/>
            </p:nvSpPr>
            <p:spPr>
              <a:xfrm>
                <a:off x="5379120" y="2288880"/>
                <a:ext cx="49320" cy="939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7" name="AutoShape 77"/>
              <p:cNvCxnSpPr>
                <a:stCxn id="68" idx="2"/>
                <a:endCxn id="88" idx="2"/>
              </p:cNvCxnSpPr>
              <p:nvPr/>
            </p:nvCxnSpPr>
            <p:spPr>
              <a:xfrm>
                <a:off x="5385600" y="2163600"/>
                <a:ext cx="3600" cy="846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89" name="AutoShape 76"/>
              <p:cNvCxnSpPr>
                <a:stCxn id="90" idx="2"/>
                <a:endCxn id="79" idx="2"/>
              </p:cNvCxnSpPr>
              <p:nvPr/>
            </p:nvCxnSpPr>
            <p:spPr>
              <a:xfrm>
                <a:off x="5388840" y="2324880"/>
                <a:ext cx="360" cy="105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1" name="AutoShape 75"/>
              <p:cNvSpPr/>
              <p:nvPr/>
            </p:nvSpPr>
            <p:spPr>
              <a:xfrm>
                <a:off x="4319640" y="3278520"/>
                <a:ext cx="155880" cy="16488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2" name="AutoShape 74"/>
              <p:cNvCxnSpPr/>
              <p:nvPr/>
            </p:nvCxnSpPr>
            <p:spPr>
              <a:xfrm>
                <a:off x="6370200" y="3449160"/>
                <a:ext cx="1080" cy="2052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3" name="AutoShape 73"/>
              <p:cNvCxnSpPr/>
              <p:nvPr/>
            </p:nvCxnSpPr>
            <p:spPr>
              <a:xfrm>
                <a:off x="5408280" y="3445200"/>
                <a:ext cx="1440" cy="2088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4" name="AutoShape 72"/>
              <p:cNvCxnSpPr/>
              <p:nvPr/>
            </p:nvCxnSpPr>
            <p:spPr>
              <a:xfrm>
                <a:off x="4397040" y="3443400"/>
                <a:ext cx="1800" cy="2109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5" name="Oval 71"/>
              <p:cNvSpPr/>
              <p:nvPr/>
            </p:nvSpPr>
            <p:spPr>
              <a:xfrm>
                <a:off x="3294360" y="2638800"/>
                <a:ext cx="49320" cy="939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Group 62"/>
              <p:cNvGrpSpPr/>
              <p:nvPr/>
            </p:nvGrpSpPr>
            <p:grpSpPr>
              <a:xfrm>
                <a:off x="3393720" y="3836520"/>
                <a:ext cx="352800" cy="369360"/>
                <a:chOff x="3393720" y="3836520"/>
                <a:chExt cx="352800" cy="369360"/>
              </a:xfrm>
            </p:grpSpPr>
            <p:sp>
              <p:nvSpPr>
                <p:cNvPr id="97" name="Oval 70"/>
                <p:cNvSpPr/>
                <p:nvPr/>
              </p:nvSpPr>
              <p:spPr>
                <a:xfrm rot="16200000">
                  <a:off x="3389040" y="3848760"/>
                  <a:ext cx="369360" cy="344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98" name="AutoShape 69"/>
                <p:cNvCxnSpPr/>
                <p:nvPr/>
              </p:nvCxnSpPr>
              <p:spPr>
                <a:xfrm>
                  <a:off x="3492720" y="4095720"/>
                  <a:ext cx="254160" cy="576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99" name="AutoShape 68"/>
                <p:cNvCxnSpPr/>
                <p:nvPr/>
              </p:nvCxnSpPr>
              <p:spPr>
                <a:xfrm flipV="1">
                  <a:off x="3487680" y="3936240"/>
                  <a:ext cx="25920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0" name="AutoShape 67"/>
                <p:cNvCxnSpPr/>
                <p:nvPr/>
              </p:nvCxnSpPr>
              <p:spPr>
                <a:xfrm>
                  <a:off x="3487680" y="3936960"/>
                  <a:ext cx="101520" cy="8424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1" name="AutoShape 66"/>
                <p:cNvCxnSpPr/>
                <p:nvPr/>
              </p:nvCxnSpPr>
              <p:spPr>
                <a:xfrm flipH="1">
                  <a:off x="3492360" y="4020840"/>
                  <a:ext cx="96480" cy="7560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02" name="Oval 65"/>
                <p:cNvSpPr/>
                <p:nvPr/>
              </p:nvSpPr>
              <p:spPr>
                <a:xfrm rot="16200000">
                  <a:off x="3596760" y="3956040"/>
                  <a:ext cx="49320" cy="93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 rot="16200000">
                  <a:off x="3421080" y="4048560"/>
                  <a:ext cx="49320" cy="93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3"/>
                <p:cNvSpPr/>
                <p:nvPr/>
              </p:nvSpPr>
              <p:spPr>
                <a:xfrm rot="16200000">
                  <a:off x="3416040" y="3889800"/>
                  <a:ext cx="49320" cy="93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Oval 61"/>
              <p:cNvSpPr/>
              <p:nvPr/>
            </p:nvSpPr>
            <p:spPr>
              <a:xfrm>
                <a:off x="4765320" y="2192040"/>
                <a:ext cx="49320" cy="936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6" name="AutoShape 60"/>
              <p:cNvCxnSpPr/>
              <p:nvPr/>
            </p:nvCxnSpPr>
            <p:spPr>
              <a:xfrm>
                <a:off x="5133240" y="2288880"/>
                <a:ext cx="1800" cy="245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07" name="AutoShape 59"/>
              <p:cNvSpPr/>
              <p:nvPr/>
            </p:nvSpPr>
            <p:spPr>
              <a:xfrm>
                <a:off x="3746160" y="4050360"/>
                <a:ext cx="125640" cy="12492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12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AutoShape 58"/>
              <p:cNvSpPr/>
              <p:nvPr/>
            </p:nvSpPr>
            <p:spPr>
              <a:xfrm>
                <a:off x="3746160" y="3875400"/>
                <a:ext cx="125640" cy="12492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1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AutoShape 57"/>
              <p:cNvSpPr/>
              <p:nvPr/>
            </p:nvSpPr>
            <p:spPr>
              <a:xfrm>
                <a:off x="3492720" y="4340160"/>
                <a:ext cx="156240" cy="16488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AutoShape 56"/>
              <p:cNvSpPr/>
              <p:nvPr/>
            </p:nvSpPr>
            <p:spPr>
              <a:xfrm>
                <a:off x="3678840" y="3583080"/>
                <a:ext cx="151560" cy="16488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1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1" name="AutoShape 55"/>
              <p:cNvCxnSpPr/>
              <p:nvPr/>
            </p:nvCxnSpPr>
            <p:spPr>
              <a:xfrm flipH="1" flipV="1" rot="5400000">
                <a:off x="3540240" y="3698280"/>
                <a:ext cx="171360" cy="10584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12" name="AutoShape 54"/>
              <p:cNvCxnSpPr/>
              <p:nvPr/>
            </p:nvCxnSpPr>
            <p:spPr>
              <a:xfrm flipH="1">
                <a:off x="3570120" y="4205880"/>
                <a:ext cx="3240" cy="1346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13" name="AutoShape 53"/>
              <p:cNvCxnSpPr/>
              <p:nvPr/>
            </p:nvCxnSpPr>
            <p:spPr>
              <a:xfrm flipH="1" rot="16200000">
                <a:off x="3546720" y="4528080"/>
                <a:ext cx="414720" cy="3682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114" name="Oval 52"/>
              <p:cNvSpPr/>
              <p:nvPr/>
            </p:nvSpPr>
            <p:spPr>
              <a:xfrm>
                <a:off x="3938400" y="4872240"/>
                <a:ext cx="49320" cy="939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5" name="AutoShape 51"/>
              <p:cNvCxnSpPr/>
              <p:nvPr/>
            </p:nvCxnSpPr>
            <p:spPr>
              <a:xfrm>
                <a:off x="3938040" y="4919040"/>
                <a:ext cx="1080" cy="1411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6" name="Rectangle 50"/>
              <p:cNvSpPr/>
              <p:nvPr/>
            </p:nvSpPr>
            <p:spPr>
              <a:xfrm>
                <a:off x="3126960" y="2046960"/>
                <a:ext cx="79200" cy="471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49"/>
              <p:cNvSpPr/>
              <p:nvPr/>
            </p:nvSpPr>
            <p:spPr>
              <a:xfrm>
                <a:off x="3589200" y="2046960"/>
                <a:ext cx="79200" cy="471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AutoShape 48"/>
              <p:cNvSpPr/>
              <p:nvPr/>
            </p:nvSpPr>
            <p:spPr>
              <a:xfrm>
                <a:off x="2612520" y="4174920"/>
                <a:ext cx="156240" cy="16488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1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9" name="AutoShape 47"/>
              <p:cNvCxnSpPr/>
              <p:nvPr/>
            </p:nvCxnSpPr>
            <p:spPr>
              <a:xfrm rot="10800000">
                <a:off x="2689920" y="4339440"/>
                <a:ext cx="438120" cy="6976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20" name="AutoShape 46"/>
              <p:cNvCxnSpPr/>
              <p:nvPr/>
            </p:nvCxnSpPr>
            <p:spPr>
              <a:xfrm flipH="1" flipV="1" rot="5400000">
                <a:off x="1814400" y="3157920"/>
                <a:ext cx="1892880" cy="1414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121" name="AutoShape 45"/>
              <p:cNvSpPr/>
              <p:nvPr/>
            </p:nvSpPr>
            <p:spPr>
              <a:xfrm>
                <a:off x="3777840" y="2202120"/>
                <a:ext cx="156240" cy="16488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1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2" name="AutoShape 44"/>
              <p:cNvCxnSpPr/>
              <p:nvPr/>
            </p:nvCxnSpPr>
            <p:spPr>
              <a:xfrm>
                <a:off x="3668400" y="2283120"/>
                <a:ext cx="109800" cy="18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23" name="AutoShape 43"/>
              <p:cNvCxnSpPr/>
              <p:nvPr/>
            </p:nvCxnSpPr>
            <p:spPr>
              <a:xfrm>
                <a:off x="4122360" y="2288880"/>
                <a:ext cx="1800" cy="245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4" name="AutoShape 42"/>
              <p:cNvCxnSpPr/>
              <p:nvPr/>
            </p:nvCxnSpPr>
            <p:spPr>
              <a:xfrm>
                <a:off x="6368400" y="2288880"/>
                <a:ext cx="1800" cy="245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5" name="AutoShape 41"/>
              <p:cNvCxnSpPr/>
              <p:nvPr/>
            </p:nvCxnSpPr>
            <p:spPr>
              <a:xfrm>
                <a:off x="3205800" y="2127600"/>
                <a:ext cx="383400" cy="14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26" name="AutoShape 40"/>
              <p:cNvCxnSpPr/>
              <p:nvPr/>
            </p:nvCxnSpPr>
            <p:spPr>
              <a:xfrm>
                <a:off x="3200400" y="2430360"/>
                <a:ext cx="38340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27" name="AutoShape 39"/>
              <p:cNvCxnSpPr/>
              <p:nvPr/>
            </p:nvCxnSpPr>
            <p:spPr>
              <a:xfrm>
                <a:off x="2987640" y="2282760"/>
                <a:ext cx="139680" cy="14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28" name="AutoShape 38"/>
              <p:cNvSpPr/>
              <p:nvPr/>
            </p:nvSpPr>
            <p:spPr>
              <a:xfrm>
                <a:off x="3444840" y="1922040"/>
                <a:ext cx="125640" cy="12492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17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9" name="AutoShape 37"/>
              <p:cNvCxnSpPr/>
              <p:nvPr/>
            </p:nvCxnSpPr>
            <p:spPr>
              <a:xfrm>
                <a:off x="3507480" y="2046960"/>
                <a:ext cx="2520" cy="82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30" name="AutoShape 36"/>
              <p:cNvCxnSpPr/>
              <p:nvPr/>
            </p:nvCxnSpPr>
            <p:spPr>
              <a:xfrm flipV="1">
                <a:off x="3507480" y="1778040"/>
                <a:ext cx="2520" cy="1440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31" name="AutoShape 35"/>
              <p:cNvSpPr/>
              <p:nvPr/>
            </p:nvSpPr>
            <p:spPr>
              <a:xfrm>
                <a:off x="7030440" y="4205880"/>
                <a:ext cx="534600" cy="709920"/>
              </a:xfrm>
              <a:prstGeom prst="flowChartMagneticDisk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AutoShape 34"/>
              <p:cNvSpPr/>
              <p:nvPr/>
            </p:nvSpPr>
            <p:spPr>
              <a:xfrm>
                <a:off x="7214400" y="3894840"/>
                <a:ext cx="156240" cy="16488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3" name="AutoShape 33"/>
              <p:cNvCxnSpPr/>
              <p:nvPr/>
            </p:nvCxnSpPr>
            <p:spPr>
              <a:xfrm flipH="1" flipV="1">
                <a:off x="7292160" y="4059360"/>
                <a:ext cx="5760" cy="146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34" name="AutoShape 32"/>
              <p:cNvCxnSpPr/>
              <p:nvPr/>
            </p:nvCxnSpPr>
            <p:spPr>
              <a:xfrm flipV="1">
                <a:off x="7285320" y="3653280"/>
                <a:ext cx="1440" cy="2419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5" name="AutoShape 31"/>
              <p:cNvCxnSpPr/>
              <p:nvPr/>
            </p:nvCxnSpPr>
            <p:spPr>
              <a:xfrm>
                <a:off x="7283880" y="3445200"/>
                <a:ext cx="1800" cy="209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36" name="AutoShape 30"/>
              <p:cNvSpPr/>
              <p:nvPr/>
            </p:nvSpPr>
            <p:spPr>
              <a:xfrm>
                <a:off x="7213320" y="3280320"/>
                <a:ext cx="155880" cy="16488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7" name="AutoShape 29"/>
              <p:cNvCxnSpPr/>
              <p:nvPr/>
            </p:nvCxnSpPr>
            <p:spPr>
              <a:xfrm>
                <a:off x="7288920" y="3141000"/>
                <a:ext cx="2520" cy="139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8" name="AutoShape 28"/>
              <p:cNvCxnSpPr/>
              <p:nvPr/>
            </p:nvCxnSpPr>
            <p:spPr>
              <a:xfrm>
                <a:off x="7276320" y="2288880"/>
                <a:ext cx="1800" cy="245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139" name="Group 23"/>
              <p:cNvGrpSpPr/>
              <p:nvPr/>
            </p:nvGrpSpPr>
            <p:grpSpPr>
              <a:xfrm>
                <a:off x="7548480" y="2875680"/>
                <a:ext cx="49320" cy="238320"/>
                <a:chOff x="7548480" y="2875680"/>
                <a:chExt cx="49320" cy="238320"/>
              </a:xfrm>
            </p:grpSpPr>
            <p:sp>
              <p:nvSpPr>
                <p:cNvPr id="140" name="Oval 26"/>
                <p:cNvSpPr/>
                <p:nvPr/>
              </p:nvSpPr>
              <p:spPr>
                <a:xfrm>
                  <a:off x="7548480" y="2875680"/>
                  <a:ext cx="49320" cy="93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Oval 25"/>
                <p:cNvSpPr/>
                <p:nvPr/>
              </p:nvSpPr>
              <p:spPr>
                <a:xfrm>
                  <a:off x="7548480" y="2973960"/>
                  <a:ext cx="49320" cy="1400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42" name="AutoShape 22"/>
              <p:cNvCxnSpPr/>
              <p:nvPr/>
            </p:nvCxnSpPr>
            <p:spPr>
              <a:xfrm>
                <a:off x="7675920" y="3040920"/>
                <a:ext cx="257040" cy="39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43" name="AutoShape 21"/>
              <p:cNvSpPr/>
              <p:nvPr/>
            </p:nvSpPr>
            <p:spPr>
              <a:xfrm>
                <a:off x="7557480" y="2977920"/>
                <a:ext cx="125640" cy="12492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</a:t>
                </a: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4" name="AutoShape 20"/>
              <p:cNvCxnSpPr/>
              <p:nvPr/>
            </p:nvCxnSpPr>
            <p:spPr>
              <a:xfrm flipH="1">
                <a:off x="7560000" y="2919960"/>
                <a:ext cx="3016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45" name="AutoShape 19"/>
              <p:cNvSpPr/>
              <p:nvPr/>
            </p:nvSpPr>
            <p:spPr>
              <a:xfrm>
                <a:off x="7861320" y="2853000"/>
                <a:ext cx="125640" cy="12492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</a:t>
                </a: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18"/>
              <p:cNvSpPr/>
              <p:nvPr/>
            </p:nvSpPr>
            <p:spPr>
              <a:xfrm>
                <a:off x="7477200" y="2666880"/>
                <a:ext cx="530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TK-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Hot Wat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17"/>
              <p:cNvSpPr/>
              <p:nvPr/>
            </p:nvSpPr>
            <p:spPr>
              <a:xfrm>
                <a:off x="6565320" y="2666880"/>
                <a:ext cx="53064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 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TK-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Reclaim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Wat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16"/>
              <p:cNvSpPr/>
              <p:nvPr/>
            </p:nvSpPr>
            <p:spPr>
              <a:xfrm>
                <a:off x="5557680" y="2669400"/>
                <a:ext cx="53064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    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TK-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  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Alkalin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 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Solu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5"/>
              <p:cNvSpPr/>
              <p:nvPr/>
            </p:nvSpPr>
            <p:spPr>
              <a:xfrm>
                <a:off x="4590360" y="2670840"/>
                <a:ext cx="53064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TK-7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Acidic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Solu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14"/>
              <p:cNvSpPr/>
              <p:nvPr/>
            </p:nvSpPr>
            <p:spPr>
              <a:xfrm>
                <a:off x="5517000" y="1215000"/>
                <a:ext cx="530640" cy="39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    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TK-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  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Alkalin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 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Solu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  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Storag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13"/>
              <p:cNvSpPr/>
              <p:nvPr/>
            </p:nvSpPr>
            <p:spPr>
              <a:xfrm>
                <a:off x="4567680" y="1201320"/>
                <a:ext cx="530640" cy="47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TK-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Acidic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Solu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Storag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12"/>
              <p:cNvSpPr/>
              <p:nvPr/>
            </p:nvSpPr>
            <p:spPr>
              <a:xfrm>
                <a:off x="7495560" y="4402800"/>
                <a:ext cx="53064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TK-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Fresh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Wat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1"/>
              <p:cNvSpPr/>
              <p:nvPr/>
            </p:nvSpPr>
            <p:spPr>
              <a:xfrm>
                <a:off x="4059720" y="4654440"/>
                <a:ext cx="530640" cy="38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TK-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Tank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being cleaned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>
                <a:off x="3864600" y="3420000"/>
                <a:ext cx="355680" cy="1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P-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9"/>
              <p:cNvSpPr/>
              <p:nvPr/>
            </p:nvSpPr>
            <p:spPr>
              <a:xfrm>
                <a:off x="3057120" y="4795200"/>
                <a:ext cx="355320" cy="19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P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8"/>
              <p:cNvSpPr/>
              <p:nvPr/>
            </p:nvSpPr>
            <p:spPr>
              <a:xfrm>
                <a:off x="3076200" y="3978720"/>
                <a:ext cx="431640" cy="1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HX-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7"/>
              <p:cNvSpPr/>
              <p:nvPr/>
            </p:nvSpPr>
            <p:spPr>
              <a:xfrm>
                <a:off x="3227760" y="2518920"/>
                <a:ext cx="549720" cy="1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Filt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utoShape 6"/>
              <p:cNvSpPr/>
              <p:nvPr/>
            </p:nvSpPr>
            <p:spPr>
              <a:xfrm>
                <a:off x="2831760" y="2199960"/>
                <a:ext cx="155880" cy="16488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1</a:t>
                </a: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utoShape 5"/>
              <p:cNvSpPr/>
              <p:nvPr/>
            </p:nvSpPr>
            <p:spPr>
              <a:xfrm>
                <a:off x="2321640" y="2199960"/>
                <a:ext cx="155880" cy="16488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0" name="AutoShape 4"/>
              <p:cNvCxnSpPr/>
              <p:nvPr/>
            </p:nvCxnSpPr>
            <p:spPr>
              <a:xfrm>
                <a:off x="2477520" y="2282400"/>
                <a:ext cx="2134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1" name="AutoShape 3"/>
              <p:cNvCxnSpPr/>
              <p:nvPr/>
            </p:nvCxnSpPr>
            <p:spPr>
              <a:xfrm flipH="1">
                <a:off x="2075760" y="2282760"/>
                <a:ext cx="245880" cy="39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62" name="Rectangle 2"/>
              <p:cNvSpPr/>
              <p:nvPr/>
            </p:nvSpPr>
            <p:spPr>
              <a:xfrm>
                <a:off x="1785960" y="2302920"/>
                <a:ext cx="549720" cy="19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Drai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Oval 131"/>
            <p:cNvSpPr/>
            <p:nvPr/>
          </p:nvSpPr>
          <p:spPr>
            <a:xfrm>
              <a:off x="5388840" y="2209680"/>
              <a:ext cx="75960" cy="75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Curved Connector 134"/>
            <p:cNvCxnSpPr>
              <a:stCxn id="88" idx="2"/>
              <a:endCxn id="90" idx="2"/>
            </p:cNvCxnSpPr>
            <p:nvPr/>
          </p:nvCxnSpPr>
          <p:spPr>
            <a:xfrm rot="10800000">
              <a:off x="5388840" y="2247840"/>
              <a:ext cx="360" cy="77400"/>
            </a:xfrm>
            <a:prstGeom prst="curvedConnector3">
              <a:avLst>
                <a:gd name="adj1" fmla="val -2000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0" name="Oval 136"/>
            <p:cNvSpPr/>
            <p:nvPr/>
          </p:nvSpPr>
          <p:spPr>
            <a:xfrm>
              <a:off x="5388840" y="2267640"/>
              <a:ext cx="75960" cy="1141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4" name="Curved Connector 128"/>
          <p:cNvCxnSpPr>
            <a:stCxn id="82" idx="2"/>
            <a:endCxn id="83" idx="2"/>
          </p:cNvCxnSpPr>
          <p:nvPr/>
        </p:nvCxnSpPr>
        <p:spPr>
          <a:xfrm rot="10800000">
            <a:off x="4389480" y="2249640"/>
            <a:ext cx="360" cy="74160"/>
          </a:xfrm>
          <a:prstGeom prst="curvedConnector3">
            <a:avLst>
              <a:gd name="adj1" fmla="val -10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65" name="Freeform 116"/>
          <p:cNvSpPr/>
          <p:nvPr/>
        </p:nvSpPr>
        <p:spPr>
          <a:xfrm>
            <a:off x="7086600" y="2895480"/>
            <a:ext cx="457200" cy="152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19:44:38Z</dcterms:created>
  <dc:creator>Travis</dc:creator>
  <dc:description/>
  <dc:language>en-US</dc:language>
  <cp:lastModifiedBy>student 11</cp:lastModifiedBy>
  <dcterms:modified xsi:type="dcterms:W3CDTF">2010-03-04T19:48:46Z</dcterms:modified>
  <cp:revision>29</cp:revision>
  <dc:subject/>
  <dc:title>Slide 1</dc:title>
</cp:coreProperties>
</file>